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6D37-29C7-4904-8DEF-F34B37E86481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FEF8-C59C-4628-9FE4-38F6DCBB42B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1876-FAFE-4E78-9AEE-11124B01FDD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510480" y="299880"/>
            <a:ext cx="669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eservation Strategie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Intro to the OAIS Reference Model; Version 1.0, Reviewed ??/??/?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ublic.ccsds.org/publications/archive/650x0b1.pdf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ation Strateg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Intro to the OAIS Reference Model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t Tilm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S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2" name="Picture 31" descr="nasa_3_c"/>
          <p:cNvPicPr/>
          <p:nvPr/>
        </p:nvPicPr>
        <p:blipFill>
          <a:blip r:embed="rId1"/>
          <a:stretch/>
        </p:blipFill>
        <p:spPr>
          <a:xfrm>
            <a:off x="558720" y="7848720"/>
            <a:ext cx="16718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Reference Model for an Open Archival Information System (OAIS) provides a framework of concepts and terminology for describing the architecture of archives intended for long term preservation of digital inform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course model provides a </a:t>
            </a:r>
            <a:r>
              <a:rPr b="1" i="1" lang="en-US" sz="3400" spc="-1" strike="noStrike">
                <a:solidFill>
                  <a:srgbClr val="606060"/>
                </a:solidFill>
                <a:latin typeface="Helvetica Neue"/>
              </a:rPr>
              <a:t>brief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roduction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5" name="Picture 3" descr="OAIS_Cover.png"/>
          <p:cNvPicPr/>
          <p:nvPr/>
        </p:nvPicPr>
        <p:blipFill>
          <a:blip r:embed="rId1"/>
          <a:stretch/>
        </p:blipFill>
        <p:spPr>
          <a:xfrm>
            <a:off x="4673520" y="5257800"/>
            <a:ext cx="3137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intended for long term preservation have many common requirements, some which may not be immediately obvious.  The OAIS-RM gives a good common understanding of those shared requirem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OAIS-RM also provides a generic high level architecture that depicts an approach to accomplishing those requirem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r system should have analogous components that can map to the RM concepts.  The RM terminology is widely used to describe the purpose and use of those compon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AIS 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9" name="Content Placeholder 3" descr="oais_env.png"/>
          <p:cNvPicPr/>
          <p:nvPr/>
        </p:nvPicPr>
        <p:blipFill>
          <a:blip r:embed="rId1"/>
          <a:stretch/>
        </p:blipFill>
        <p:spPr>
          <a:xfrm>
            <a:off x="3606840" y="2666880"/>
            <a:ext cx="5315040" cy="26290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4" descr="oais_information.png"/>
          <p:cNvPicPr/>
          <p:nvPr/>
        </p:nvPicPr>
        <p:blipFill>
          <a:blip r:embed="rId2"/>
          <a:stretch/>
        </p:blipFill>
        <p:spPr>
          <a:xfrm>
            <a:off x="2844720" y="6400800"/>
            <a:ext cx="672480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AIS External data flo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2" name="Content Placeholder 3" descr="oais_external.png"/>
          <p:cNvPicPr/>
          <p:nvPr/>
        </p:nvPicPr>
        <p:blipFill>
          <a:blip r:embed="rId1"/>
          <a:stretch/>
        </p:blipFill>
        <p:spPr>
          <a:xfrm>
            <a:off x="3073320" y="2133720"/>
            <a:ext cx="7543800" cy="63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nformation Packag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71680" y="2324160"/>
            <a:ext cx="64641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ation Description Information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venance – Source of Content; Who had custody; Histo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ext – How the Content relates to external inform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 – Identifiers for the Cont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xity – Protection from alteration or corruption, such as Checksum or Digital Signatur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5" name="Picture 3" descr="oais_packages.png"/>
          <p:cNvPicPr/>
          <p:nvPr/>
        </p:nvPicPr>
        <p:blipFill>
          <a:blip r:embed="rId1"/>
          <a:stretch/>
        </p:blipFill>
        <p:spPr>
          <a:xfrm>
            <a:off x="6883560" y="3048120"/>
            <a:ext cx="594360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AIS Functional Entiti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7" name="Content Placeholder 3" descr="oais_entities.png"/>
          <p:cNvPicPr/>
          <p:nvPr/>
        </p:nvPicPr>
        <p:blipFill>
          <a:blip r:embed="rId1"/>
          <a:stretch/>
        </p:blipFill>
        <p:spPr>
          <a:xfrm>
            <a:off x="1778040" y="2895480"/>
            <a:ext cx="95266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Reference Model for an Open Archival Information System (OAIS).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CCSDS 650.0-B-1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, Blue Book, January 2002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public.ccsds.org/publications/archive/650x0b1.p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lso known as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ISO14721:2003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aft revision under review: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CCSDS 650.0-P-1.1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Pink Book) Issue 1.1 August 2009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identifiers and loc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ile naming conven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Using self-describing data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ecording provenance and contex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etadata for {discovery; access and use; archiving}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Curt</cp:lastModifiedBy>
  <dcterms:modified xsi:type="dcterms:W3CDTF">2011-10-21T20:37:31Z</dcterms:modified>
  <cp:revision>43</cp:revision>
  <dc:subject/>
  <dc:title>ESIP Federation 101</dc:title>
</cp:coreProperties>
</file>